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7C1-BC70-46E7-B8F0-84071EE2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D4E-5B0E-444F-8257-BE52E178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1EFE-25CE-41A1-BE00-9A8F74EA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77A-7F4F-445F-B971-075EC624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210-55F5-4662-8E4E-50439FFF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9AF4-C439-4136-8D69-B7679D50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892-BDB9-4897-B777-AB86B85E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B2B-DB2E-4C60-A163-5ADA56EF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52F-7389-46F6-B34C-FCAB9604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697-52A5-422C-8588-BC85AA76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8F4-878D-44A9-B796-D38BAF7C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EFC-EA83-4BA5-AAA8-7B47B1E2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5C2E-34FA-42C0-8E8E-3F79ADBA22D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7320" y="1270080"/>
            <a:ext cx="8827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7320" y="1270080"/>
            <a:ext cx="8827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7320" y="1270080"/>
            <a:ext cx="8827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7320" y="1270080"/>
            <a:ext cx="8827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7320" y="1270080"/>
            <a:ext cx="8827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7320" y="1270080"/>
            <a:ext cx="8827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7320" y="1270080"/>
            <a:ext cx="8827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7320" y="1270080"/>
            <a:ext cx="8827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6:47:19Z</dcterms:created>
  <dc:creator>LAMISS UQAM</dc:creator>
  <dc:description/>
  <cp:keywords/>
  <dc:language>en-US</dc:language>
  <cp:lastModifiedBy>LAMISS UQAM</cp:lastModifiedBy>
  <dcterms:modified xsi:type="dcterms:W3CDTF">2010-04-12T16:52:04Z</dcterms:modified>
  <cp:revision>1</cp:revision>
  <dc:subject/>
  <dc:title>Présentation PowerPoint</dc:title>
</cp:coreProperties>
</file>